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4DEE-7A95-4632-924B-E18A423CA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E93A-A266-44BE-89AF-4CB33F131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B91E-2C5F-4E2C-A6BB-4D3BADD3F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7ED0-16E3-4BDC-A098-91DE422E9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E103-3568-49DE-A3EE-176C92F82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C02E-8724-400D-BEE7-1CA096A46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204D-1F42-4F89-946D-D5D1E1461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A426-1586-4EDF-AB7F-F145A8CAC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FCC9-90CD-4884-8CD4-A5F4849F7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126B-78B0-41B8-A37F-E298D69C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4524-A728-4422-B3D7-550B34C5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8EAB-D753-4155-BC4C-00D16466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00F10-40C1-450E-8FFE-1AB384E87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ck Makeup Bell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1522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ll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6629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cks formed directly from volcanic (magma) that has cooled are _______roc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gneous rocks are classified by their crystal ___ and____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ntrusive igneous rocks form ___ the surface and extrusive igneous rock form above the ____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 rock such as granite with large crystals ____ slowly_____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ne way to identify an igneous rock like granite is to look for ______ crystal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371600" y="1522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781680" y="1143000"/>
            <a:ext cx="2057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lo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gne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500" autoRev="1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0)"/>
                                      </p:to>
                                    </p:set>
                                    <p:set>
                                      <p:cBhvr>
                                        <p:cTn id="13" dur="500" autoRev="1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0)"/>
                                      </p:to>
                                    </p:set>
                                    <p:set>
                                      <p:cBhvr>
                                        <p:cTn id="14" dur="500" autoRev="1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1522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ll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6629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gneous rocks form from the ____ and hardening of magm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cks broken up from wind, rain, and exposure refers to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rock is created through the deposition, stratification, and lithification (layering) of weathered rock fragments and s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 rock such as granite with large crystals ____ slowly_____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 rock such as basalt with small crystal cooled ____ at the______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934320" y="1447920"/>
            <a:ext cx="1981080" cy="380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th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diment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ys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8108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4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50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0)"/>
                                      </p:to>
                                    </p:set>
                                    <p:set>
                                      <p:cBhvr>
                                        <p:cTn id="27" dur="50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0)"/>
                                      </p:to>
                                    </p:set>
                                    <p:set>
                                      <p:cBhvr>
                                        <p:cTn id="28" dur="50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1522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ll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6629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cks formed directly from cooling magma are classified as_____________rock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s broken up from wind, rain, and exposure refers to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rock is created through the deposition, stratification, and lithification (layering) of weathered rock fragments and s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ne way to identify a sedimentary rock is to look for stratification or ______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ne way to identify igneous rocks is look for ________crysta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58000" y="1447920"/>
            <a:ext cx="1905120" cy="373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sw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lo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gne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y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ath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diment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934320" y="3657600"/>
            <a:ext cx="18288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7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8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50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0)"/>
                                      </p:to>
                                    </p:set>
                                    <p:set>
                                      <p:cBhvr>
                                        <p:cTn id="41" dur="50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0)"/>
                                      </p:to>
                                    </p:set>
                                    <p:set>
                                      <p:cBhvr>
                                        <p:cTn id="42" dur="50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28240" y="1219320"/>
            <a:ext cx="67057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 rock is a_______ of mineral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 dark rock made of volcanic glass that cooled very quickly is called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_____is the flattening and parallel alignment of minerals grains in response to heat and press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What is the name of an extrusive igneous rock that is dark in colo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5. 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onglomerate is a rock made up of____________.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6.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arble is a ___________ rock.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7.    The metamorphic rock formed from siltstone is called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781680" y="1905120"/>
            <a:ext cx="1981440" cy="2819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nswer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id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b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morph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a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ll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1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2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500" autoRev="1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0)"/>
                                      </p:to>
                                    </p:set>
                                    <p:set>
                                      <p:cBhvr>
                                        <p:cTn id="55" dur="500" autoRev="1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0)"/>
                                      </p:to>
                                    </p:set>
                                    <p:set>
                                      <p:cBhvr>
                                        <p:cTn id="56" dur="500" autoRev="1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ll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6781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cks formed directly from volcanic (magma) that has cooled are _______rock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cks broken up from wind, rain, and exposure refers to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rock is created through the deposition, stratification, and lithification (layering) of weathered rock fragments and s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s that have been subjected to high temperature and pressure are called________ rock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-15228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10280" y="1600200"/>
            <a:ext cx="1905120" cy="266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sw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lo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gne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amorph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ath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diment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5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6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500" autoRev="1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0)"/>
                                      </p:to>
                                    </p:set>
                                    <p:set>
                                      <p:cBhvr>
                                        <p:cTn id="69" dur="500" autoRev="1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0)"/>
                                      </p:to>
                                    </p:set>
                                    <p:set>
                                      <p:cBhvr>
                                        <p:cTn id="70" dur="500" autoRev="1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3T15:16:57Z</dcterms:created>
  <dc:creator>jfuller</dc:creator>
  <dc:description/>
  <dc:language>en-US</dc:language>
  <cp:lastModifiedBy>jfuller</cp:lastModifiedBy>
  <dcterms:modified xsi:type="dcterms:W3CDTF">2011-10-03T15:17:03Z</dcterms:modified>
  <cp:revision>1</cp:revision>
  <dc:subject/>
  <dc:title>Rock Makeup Bellwork</dc:title>
</cp:coreProperties>
</file>